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850-6B51-4724-A751-233735D3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563-CEBA-4794-9C35-79F59D8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2E9-5E65-4195-AC66-7916CC2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6AD-21FE-43E9-AB9F-4D16F5C2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DD3-ED90-4D0A-B4CA-93DD09EF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96C-B432-45B6-A0C7-FE460DBA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685C-30E1-4110-A07A-72B593D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8D5-E519-4135-884D-D08767A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601-C23E-468A-9EBB-631A9F1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9E8E-9046-4562-9B19-D1730EF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0F1-EB39-40DE-AF56-C5AC944A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254-BEF4-41C7-8FA6-35FA125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C26-1AD1-4E9E-9F96-4BF6F67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FC1A-6D7C-4152-A05C-8B00A53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305-F59C-4FE3-91FD-A079AD2D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77EA-A124-408B-8D6F-A16E32DC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BB7B-2F61-4ADA-8469-B0EECDF8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CA4-60BC-4914-B503-41869FBC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6C4-4065-4960-9BC3-AE48F2F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22D-CD20-44D7-BD25-E261B7B4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7A7-8950-40B7-956B-AA140A0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64A-7EEB-4572-A1C2-377E9BB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D18-5B4C-4341-9620-0B0948F5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C4C-4586-4334-B3C2-71D9C01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5cb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5cb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5cb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5cb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5cb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113-5F20-402C-9835-05B534254E94}" type="slidenum"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5cba6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FEDA-8C1C-44EA-86B4-87A81A522249}" type="slidenum">
              <a:rPr b="0" lang="en-US" sz="1400" spc="-1" strike="noStrike">
                <a:solidFill>
                  <a:srgbClr val="c5cba6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5cba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5cba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5cb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5cb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hyperlink" Target="http://eev.liu.edu/KK/wallsthattalk/culturewalls/images/plimouthplantation1.jpg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Comparison of Jamestown and Plymouth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cba6"/>
                </a:solidFill>
                <a:latin typeface="Arial"/>
              </a:rPr>
              <a:t>17th century settlements</a:t>
            </a:r>
            <a:endParaRPr b="0" lang="en-US" sz="32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Motivations for Jamestown Colonization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Economic prosperity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Single men hoped to make fortunes in Virginia and return to England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Previous explorers brought home tales of vast amounts of gold and other valuable resources.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English wanted to prevent Spanish and French from expanding territorial claims in North America.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14800" y="2230560"/>
            <a:ext cx="4635360" cy="307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5400000">
            <a:off x="7268040" y="3843720"/>
            <a:ext cx="323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5cba6"/>
                </a:solidFill>
                <a:latin typeface="Arial"/>
              </a:rPr>
              <a:t>http://www.anthroblogs.org/nomadicthoughts/archives/newworld.jpg</a:t>
            </a:r>
            <a:endParaRPr b="0" lang="en-US" sz="8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Motivations for Plymouth Colonization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Religious freedom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Puritans persecuted for rebelling against the Church of England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Felt Church of England had not completed the work of the Reformation and was still too close to Roman Catholicism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English wanted to prevent Spanish and French from expanding territorial claims in North America.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40360" y="2171880"/>
            <a:ext cx="4622760" cy="3466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349000">
            <a:off x="6818040" y="3833280"/>
            <a:ext cx="42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5cba6"/>
                </a:solidFill>
                <a:latin typeface="Arial"/>
              </a:rPr>
              <a:t>http://static.howstuffworks.com/gif/family-vacations-plimoth-plantation.jpg</a:t>
            </a:r>
            <a:endParaRPr b="0" lang="en-US" sz="10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Founding of Jamestown Colony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Founded 1607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Funded by London Company, a private enterprise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Charter granted by King James, but not funded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Company recruited people with promises that gold could be found by those who made trip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King made decisions on government of colony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24360" y="2362320"/>
            <a:ext cx="4914720" cy="275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5400000">
            <a:off x="6466320" y="3617280"/>
            <a:ext cx="5001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msnbcmedia3.msn.com/j/msnbc/Components/Photo_StoryLevel/080521/080521-colonial-authority-hmed.hmedium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Founding of Plymouth Colony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Founded 1620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Funded by London joint-stock company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Separatists granted land in Virginia, but instead settled in Massachusetts after going off course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Signed Mayflower Compact to provide self-governing guidelines since were not settling in Virginia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32040" y="18860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355000">
            <a:off x="6877440" y="3560400"/>
            <a:ext cx="4162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b400"/>
                </a:solidFill>
                <a:uFillTx/>
                <a:latin typeface="Arial"/>
                <a:ea typeface="Osaka"/>
                <a:hlinkClick r:id="rId2"/>
              </a:rPr>
              <a:t>http://eev.liu.edu/KK/wallsthattalk/culturewalls/images/plimouthplantation1.jpg</a:t>
            </a:r>
            <a:endParaRPr b="0" lang="en-US" sz="9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Early Difficulties in Jamestown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Laziness of colonists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There were few expectations that manual labor would be required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Depended on Native Americans for food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Disease and starvation killed 80% of colonists in the first year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cba6"/>
                </a:solidFill>
                <a:latin typeface="Arial"/>
              </a:rPr>
              <a:t>Failed attempts to befriend natives led to confrontations</a:t>
            </a:r>
            <a:endParaRPr b="0" lang="en-US" sz="20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25960" y="2192400"/>
            <a:ext cx="5384520" cy="290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5293800">
            <a:off x="7419600" y="3745800"/>
            <a:ext cx="2637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media.smithsonianmag.com/images/chesapeake_388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Early Difficulties in Plymouth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cba6"/>
                </a:solidFill>
                <a:latin typeface="Arial"/>
              </a:rPr>
              <a:t>Mayflower arrived in Plymouth on Dec. 21</a:t>
            </a:r>
            <a:endParaRPr b="0" lang="en-US" sz="30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During harsh winter 54% died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Early attempts at growing crops failed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Taught how to grow crops by Squanto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43400" y="2122560"/>
            <a:ext cx="4406760" cy="3058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5393400">
            <a:off x="7930800" y="3499920"/>
            <a:ext cx="192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mitchlewis.net/photos/Plymouth002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bb48d"/>
                </a:solidFill>
                <a:latin typeface="Arial"/>
              </a:rPr>
              <a:t>Factors of Jamestown Success</a:t>
            </a:r>
            <a:endParaRPr b="0" lang="en-US" sz="40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cba6"/>
                </a:solidFill>
                <a:latin typeface="Arial"/>
              </a:rPr>
              <a:t>Captain John Smith takes control of government</a:t>
            </a:r>
            <a:endParaRPr b="0" lang="en-US" sz="30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No work, no eat” policy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Firm leadership gives direction during difficult early colonization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cba6"/>
                </a:solidFill>
                <a:latin typeface="Arial"/>
              </a:rPr>
              <a:t>Growing tobacco made the land of the colony valuable</a:t>
            </a:r>
            <a:endParaRPr b="0" lang="en-US" sz="28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393400">
            <a:off x="7233480" y="3827520"/>
            <a:ext cx="264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www.visionforum.com/hottopics/blogs/dwp/john_smith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4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bb48d"/>
                </a:solidFill>
                <a:latin typeface="Arial"/>
              </a:rPr>
              <a:t>Factors of Plymouth Success</a:t>
            </a:r>
            <a:endParaRPr b="0" lang="en-US" sz="4400" spc="-1" strike="noStrike">
              <a:solidFill>
                <a:srgbClr val="abb48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Strength of Mayflower Compact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William Bradford and Miles Standish provide leadership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Pilgrims able to grow corn (taught from natives)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cb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ba6"/>
                </a:solidFill>
                <a:latin typeface="Arial"/>
              </a:rPr>
              <a:t>Initial cooperation of native population and Pilgrims allows for the growth of the colony</a:t>
            </a:r>
            <a:endParaRPr b="0" lang="en-US" sz="2400" spc="-1" strike="noStrike">
              <a:solidFill>
                <a:srgbClr val="c5cba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393400">
            <a:off x="8016120" y="4671360"/>
            <a:ext cx="2053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www.8thfire.net/images/MylesStandish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43880" y="3429000"/>
            <a:ext cx="2171520" cy="314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00600" y="1854360"/>
            <a:ext cx="1697040" cy="279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400000">
            <a:off x="5389920" y="2966040"/>
            <a:ext cx="252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5cba6"/>
                </a:solidFill>
                <a:latin typeface="Arial"/>
              </a:rPr>
              <a:t>http://www.shsu.edu/~eng_wpf/authors/pictures/bradford.jpg</a:t>
            </a:r>
            <a:endParaRPr b="0" lang="en-US" sz="700" spc="-1" strike="noStrike">
              <a:solidFill>
                <a:srgbClr val="c5cb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1:57Z</dcterms:created>
  <dc:creator>YHS Teacher</dc:creator>
  <dc:description/>
  <dc:language>en-US</dc:language>
  <cp:lastModifiedBy>YHS Teacher</cp:lastModifiedBy>
  <dcterms:modified xsi:type="dcterms:W3CDTF">2008-09-12T02:13:31Z</dcterms:modified>
  <cp:revision>16</cp:revision>
  <dc:subject/>
  <dc:title>Comparison of Jamestown and Plymouth</dc:title>
</cp:coreProperties>
</file>